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19F-4A52-4A8B-BF91-56981E42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C62-D7B2-4B93-8CDB-BB63592D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EF6-12C5-4BB8-95D7-FAA67B6F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F71-CB4E-45A9-99B9-F4D69F64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82CA-6395-4B1B-802E-0DAD0106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5492-2641-4F42-9E20-B61CE097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A844-56C0-4888-AB7A-40AF58DE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DD47-0846-44E8-A929-F9048C41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7916-77F9-4FFD-8891-F9425EE4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3B6F-799A-4A90-958E-E5CEC8AD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864D-74A4-43D3-9ECE-E3CC547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1A1-5524-4F2C-9C6B-F8592CBF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3938-4F96-40B8-BA00-DB91D412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DCCE-D5FE-4D07-A327-424F4A3D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0239-765C-4CAF-84BB-BA26076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974E-BE7E-4D00-90E5-776C5D2C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2BE7-9889-4576-9945-B443163B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2CD-1F8B-4AE1-B15A-6C1E8754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1B7-5485-4FD6-80CE-D4534E5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9E1-EF9A-4F8B-BEEE-F2C33FD0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157-9E40-4BB2-BAC8-29B0CE6A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E94-2281-44DE-B6C8-7AF3D4B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0D8-21BD-4812-97D7-0049E32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8EB-6E59-4AFE-AD45-7DAC75C2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180E-A55E-4582-BD24-69EEC7301D01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6A82-8706-4B22-841A-E47E97B97D8F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ello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am a Powerpoint f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at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 Internet Explorer this may have just played within your web brows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wise it would have downloaded to your computer and been launched in Powerpoint (or Staroffic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2T12:53:31Z</dcterms:created>
  <dc:creator>Martin</dc:creator>
  <dc:description/>
  <dc:language>en-US</dc:language>
  <cp:lastModifiedBy>Martin</cp:lastModifiedBy>
  <dcterms:modified xsi:type="dcterms:W3CDTF">2004-05-22T13:04:03Z</dcterms:modified>
  <cp:revision>5</cp:revision>
  <dc:subject/>
  <dc:title>Hello!</dc:title>
</cp:coreProperties>
</file>